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0F7B69-12CC-4B16-A4D2-58E94AF721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level – fair execution of process steps and user automata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level – fair access to shared re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passes….if a process is in T for some time, the during this time, some other user may enter C only a number of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ual exclusion : similar to dijkstra. If proc I and j are in C, assume I sets flag first. After j sets flag to 1, it has to check to see if I has flag = 1, but this will happen while flag(i)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ex: means that if two things are in C, then number(i),I &lt; number(j),j and vice versa which is a contrad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: Proof by contradiction. Suppose all processes in T or R because progress is not guaranteed. All processes in T eventually complete so process with lowest is going to enter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kout freedom: complex pro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writer: Process I goes from T to C…writes atleast one shared var. So if there are two process, then atleast n shared vars req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relation: s pi sprime where s and sprime are automaton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enabled: for every automaton state S and transition pi, there is exists sprime such that s pi sprime is in tr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ity restrictions: Any state change not involving shared var can change state in local process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variables: only read and 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region is between try and cr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 is between crit and ex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t is between exit and 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 is between rem and next 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formed: A try-crit-exit-rem is the prefix to many more s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ex: No reachable system state in which more than one user is in a critical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: If one program is in try and none in critical then at some point someone enters C. Similarly for exit region and non 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wo are safety properties,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iveness….notion of fairness in pro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responsibility for progress….upto users also…not just 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kout: No guarantee that everyone will get to critical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ECD99-0EB5-40A7-93FD-9A3A454F3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AA859-C599-4003-87BA-031315D9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94748-1252-4A41-971C-A9C782CF5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F7648-A65C-4CF9-8C44-0870C8809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444E-5588-475B-A581-59A11F2BA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9A3B-F478-4242-AF8F-119A4FDF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7888-DF71-427D-B202-8D135F04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80CF-CB24-4BB7-B7B8-03BC6C4C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A1D6-1C00-4DE6-A69C-97075A5D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1ACF-F73F-47DA-8A61-2A496CEC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5FF3-5556-4E2D-8BA0-59F1B79B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FF9A9-4C64-42A1-A50B-EA1FEFCC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2702-CE8A-479A-A3A4-07E31AD7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37BA-C654-452C-BABC-0C89180E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21A6-67E8-4207-BF98-35BF18F8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C0D2-1D5B-4D03-B1BE-8EBC254EC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18FF-AC0D-4FB3-888F-0207BD3C9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37E98-61F9-4239-82A8-086F072E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5C576-1CFC-4829-A6B7-B6DFF530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CCBEC-A760-47B8-9FA3-2FFB94F05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59312-0083-40B6-B261-F268FF7D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122CE-C0EC-408A-8A25-695AAB92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8C4F9-90D4-45B4-9012-6F8840A3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9E094-AF00-4906-A798-8C68CAEC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8822-5CD4-4CC0-B5ED-F05BC1771D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AEA6-BFA3-4B5D-ACE3-E73329D9DA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Mutual Exclusio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esented by: Rohan S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istributed Algorithms Ch. 1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onger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lockouts or sta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ds of fair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level fair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level fair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onger Conditions (cont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kout free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user that reaches T eventually enters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user that reaches E eventually enters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bou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each user returns resource within tim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each step is at mo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n you enter C at mo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 = f(l,c)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entering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ly, you enter R at mo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 = f(l,c)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entering 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byp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sonNP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k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each level eliminate on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– k processes can win at level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process can win at level n – 1, yielding mutual ex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sonNP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685800" y="2362320"/>
                <a:ext cx="4425840" cy="17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very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ur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very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47239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urn(k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d / wr by all, initially arbit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lag(i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d by all j ≠ i / wr by I, initially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6002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sonNP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066680" y="1981080"/>
                <a:ext cx="5829480" cy="335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r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o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ur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aitfor</m:t>
                        </m:r>
                        <m:r>
                          <m:t xml:space="preserve">[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i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&lt;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tur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≠</m:t>
                        </m:r>
                        <m:r>
                          <m:t xml:space="preserve">i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i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i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sonNP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well 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isfies mutual ex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s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kout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g. Using Single Writer Shared Registers (BurnsME Algorith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if anyone else is trying to get a 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 claim on the 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rnsME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09480" y="2286000"/>
                <a:ext cx="345276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very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4000320"/>
            <a:ext cx="8229600" cy="18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d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lag(i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r by i / rd by all j ≠ I, initially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rnsME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066680" y="1828800"/>
                <a:ext cx="3810240" cy="38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r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t xml:space="preserve">L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j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oto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j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oto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j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oto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i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i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rnsME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well 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s mutual ex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s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s that will be cove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view and problem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jkstra’s Mutual Exclusion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er Conditions for Mutual Exclusion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out-free Mutual Exclusion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-Writer Shared Register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akery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O after a wait-free door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orway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one picks a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its for everyone to fin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 ties and enter critical 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57200" y="2057400"/>
                <a:ext cx="33940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very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hoosn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∈</m:t>
                        </m:r>
                        <m:r>
                          <m:t xml:space="preserve"> </m:t>
                        </m:r>
                        <m:r>
                          <m:t xml:space="preserve">Ν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4000320"/>
            <a:ext cx="8229600" cy="18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d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oosng(i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 by i / rd by all j ≠ I, initially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umber(i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 by i / rd by all j ≠ I, initially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2577600"/>
            <a:ext cx="403848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85800" y="1828800"/>
                <a:ext cx="7924680" cy="42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r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hoosn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≠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hoosn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ait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hoosng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aitfornumber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&lt;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i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i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well 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isfies mutual ex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s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s lockout free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wer bound on # regi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not solve mutual exclusion with &lt;n shared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writer shared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 writer shared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ual exclusion: One at a time access to a shared re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ual exclusion w/o fai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ual exclusion w/ fai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izing the number of regi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2590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hared memory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process is a kind of stat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of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kinds of actions: input, output, inter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communication via the shared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s a transition relation for all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is input-enab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output and internal enab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ity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shared variable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cation of single, indivisible, non-shareable resource amo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s by a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ing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al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ainder (non-critical reg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05520" y="2666880"/>
            <a:ext cx="1981080" cy="20574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02800" y="2666880"/>
            <a:ext cx="5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705720" y="2895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7010280" y="3429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7057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5880" y="5029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interface of a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blem (cont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ared memory syste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lves the mutual exclusion probl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the following conditions are satisfi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-forme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tual ex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jkstra’s Mutual Exclusion Al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two stage flag to indicate what stage of processing a user is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mutual exclusion by ensuring that only one flag at a time has a value to let it into the critical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jkstra’s Mutual Exclusion Al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762120" y="2311560"/>
                <a:ext cx="601956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urn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very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,2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4000320"/>
            <a:ext cx="8229600" cy="18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ur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 / wr by all processes, intially arbit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lag(i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 by all / wr by I, initially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75248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ared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jkstra’s Mutual Exclusion Al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295280" y="1752480"/>
                <a:ext cx="4876920" cy="460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r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t xml:space="preserve">L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il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urn</m:t>
                        </m:r>
                        <m:r>
                          <m:t xml:space="preserve"> </m:t>
                        </m:r>
                        <m:r>
                          <m:t xml:space="preserve">≠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ur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urn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oto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i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x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jkstra’s Mutual Exclusion Al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s well-forme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 inspection of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isfies mutual ex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statu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s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complex p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04:22:41Z</dcterms:created>
  <dc:creator>Rohan Sen</dc:creator>
  <dc:description/>
  <dc:language>en-US</dc:language>
  <cp:lastModifiedBy>Rohan Sen</cp:lastModifiedBy>
  <dcterms:modified xsi:type="dcterms:W3CDTF">2003-09-19T18:11:57Z</dcterms:modified>
  <cp:revision>27</cp:revision>
  <dc:subject/>
  <dc:title>Mutual Exclusion</dc:title>
</cp:coreProperties>
</file>